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A32-847D-48E5-914D-B83E0C0F2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91B-74D2-42FA-A501-4B59AE627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9EE-C32F-4ED0-8035-26E130A0F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B087-F922-4478-8422-1053617C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9EB0-CB6F-4D73-AA00-7A02E28C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B595-333B-462A-99E9-AF3A93C7C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4A2C-8EA0-47E2-AA08-E25509B32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161-CF25-41EF-A89D-E58C072FB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ABF3-465F-4EC4-968D-8185BAD5A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.3 Population Density And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33520" y="7952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opulation has a density, a dispersion, and a reproductive strateg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hspe-0514UO"/>
          <p:cNvPicPr/>
          <p:nvPr/>
        </p:nvPicPr>
        <p:blipFill>
          <a:blip r:embed="rId1"/>
          <a:stretch/>
        </p:blipFill>
        <p:spPr>
          <a:xfrm>
            <a:off x="1143000" y="2087640"/>
            <a:ext cx="6858000" cy="45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786960"/>
            <a:ext cx="889164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Population density is the number of individuals that live in a defined area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28720"/>
            <a:ext cx="861048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density is a measurement of the number of individuals living in a defined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can calculate population d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_x0018_0436_bhspe-051403.p1.gif                                       00066E95&#9;Macintosh                      BEB7E0B0:"/>
          <p:cNvPicPr/>
          <p:nvPr/>
        </p:nvPicPr>
        <p:blipFill>
          <a:blip r:embed="rId2"/>
          <a:stretch/>
        </p:blipFill>
        <p:spPr>
          <a:xfrm>
            <a:off x="762120" y="3551400"/>
            <a:ext cx="761976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757520"/>
            <a:ext cx="4876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dispersion refers to how a population is spread in a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52000" y="810360"/>
            <a:ext cx="889164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Geographic dispersion of a population shows how individuals in a population are spaced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pic>
        <p:nvPicPr>
          <p:cNvPr id="94" name="Picture 60" descr=""/>
          <p:cNvPicPr/>
          <p:nvPr/>
        </p:nvPicPr>
        <p:blipFill>
          <a:blip r:embed="rId2"/>
          <a:stretch/>
        </p:blipFill>
        <p:spPr>
          <a:xfrm>
            <a:off x="6019920" y="1828800"/>
            <a:ext cx="2101680" cy="48006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61"/>
          <p:cNvGrpSpPr/>
          <p:nvPr/>
        </p:nvGrpSpPr>
        <p:grpSpPr>
          <a:xfrm>
            <a:off x="5033880" y="2590920"/>
            <a:ext cx="1035000" cy="3540600"/>
            <a:chOff x="5033880" y="2590920"/>
            <a:chExt cx="1035000" cy="3540600"/>
          </a:xfrm>
        </p:grpSpPr>
        <p:sp>
          <p:nvSpPr>
            <p:cNvPr id="96" name="Text Box 62"/>
            <p:cNvSpPr/>
            <p:nvPr/>
          </p:nvSpPr>
          <p:spPr>
            <a:xfrm>
              <a:off x="5033880" y="2590920"/>
              <a:ext cx="101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lump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pers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3"/>
            <p:cNvSpPr/>
            <p:nvPr/>
          </p:nvSpPr>
          <p:spPr>
            <a:xfrm>
              <a:off x="5056200" y="3961800"/>
              <a:ext cx="101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Unifor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pers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64"/>
            <p:cNvSpPr/>
            <p:nvPr/>
          </p:nvSpPr>
          <p:spPr>
            <a:xfrm>
              <a:off x="5056200" y="5443560"/>
              <a:ext cx="101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ando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spers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ypes of disper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38200" y="1347840"/>
            <a:ext cx="86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um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bhspe-051403-001"/>
          <p:cNvPicPr/>
          <p:nvPr/>
        </p:nvPicPr>
        <p:blipFill>
          <a:blip r:embed="rId1"/>
          <a:stretch/>
        </p:blipFill>
        <p:spPr>
          <a:xfrm>
            <a:off x="1219320" y="1905120"/>
            <a:ext cx="6858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ypes of disper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33520" y="13460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bhspe-051403-002"/>
          <p:cNvPicPr/>
          <p:nvPr/>
        </p:nvPicPr>
        <p:blipFill>
          <a:blip r:embed="rId1"/>
          <a:stretch/>
        </p:blipFill>
        <p:spPr>
          <a:xfrm>
            <a:off x="1066680" y="1919160"/>
            <a:ext cx="7010640" cy="46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hree types of disper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3520" y="13460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bhspe-051403-003"/>
          <p:cNvPicPr/>
          <p:nvPr/>
        </p:nvPicPr>
        <p:blipFill>
          <a:blip r:embed="rId1"/>
          <a:stretch/>
        </p:blipFill>
        <p:spPr>
          <a:xfrm>
            <a:off x="1143000" y="1878120"/>
            <a:ext cx="6858000" cy="47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7600" y="786960"/>
            <a:ext cx="890604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Survivorship curves help to describe the reproductive strategy of a specie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2872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ivorship curve is a diagram showing the number of surviving members over time from a measured set of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_x0007_438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990720" y="2895480"/>
            <a:ext cx="7218360" cy="33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ivorship curves can be type I, II or 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bhspe-051403-007"/>
          <p:cNvPicPr/>
          <p:nvPr/>
        </p:nvPicPr>
        <p:blipFill>
          <a:blip r:embed="rId1"/>
          <a:stretch/>
        </p:blipFill>
        <p:spPr>
          <a:xfrm>
            <a:off x="3581280" y="3124080"/>
            <a:ext cx="5029200" cy="3413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533520" y="1346040"/>
            <a:ext cx="83055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 I—low level of infant mortality and an older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to large mammals and 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 II—survivorship rate is equal at all stages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to bi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3819600"/>
            <a:ext cx="32004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 III—very high birth rate, very high infant mort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to invertebrates and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LISA, BUFFARDI</cp:lastModifiedBy>
  <dcterms:modified xsi:type="dcterms:W3CDTF">2012-03-27T17:54:20Z</dcterms:modified>
  <cp:revision>129</cp:revision>
  <dc:subject/>
  <dc:title>PowerPoint Presentation</dc:title>
</cp:coreProperties>
</file>